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media/image7.pct" ContentType="image/x-pict"/>
  <Override PartName="/ppt/media/image12.pct" ContentType="image/x-pict"/>
  <Override PartName="/ppt/media/image8.pct" ContentType="image/x-pict"/>
  <Override PartName="/ppt/media/image9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0DE2-9C7C-43CE-93B3-EEAD6ED15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0747-C4E7-4EA4-B3CA-7104C7FD0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1669-0E56-4C5F-892A-514B56EF8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D96E-971A-4FC2-8632-94310496E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E12C2-5309-43B4-8139-45D06E8DA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DC0F1-5B77-4AB5-8081-BDA405653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6C29A-EF1B-4CB0-BF9E-82726E7B2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D2CE5-F61D-4230-A024-889AD7DBD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464DD-AC70-4E70-8599-408F8F307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22051-97BA-4E81-8263-730A744B1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B35B2-26D7-4C86-9A85-11AC5E5D1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9158-19E4-4A94-9D5E-93F8F1243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6230F-AE72-461E-AB6A-29968ACA6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8CE67-3E41-43F8-8AED-1F686BD72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CDAFD-3BE4-4815-A563-4CFBD5921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9E4F7-3E7B-460D-8635-342A69982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E1717-D60C-4C61-8935-C2840D66E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6CEC-79F7-4692-9864-64D50FCF8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0075-F8B8-4B47-85D9-193837C11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2E2B-A32D-496D-BE99-AFB92C7E4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61A4-94C8-4ABD-8F4A-1C76A4EB4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8DBF-A513-4444-9676-3A4684B36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7AD2-2CB6-47CB-92C0-356BDF4DC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E504-0212-4419-859D-D85C27050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lvl="1" marL="660960" indent="-25416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lvl="2" marL="1017000" indent="-20340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lvl="3" marL="1424160" indent="-20340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lvl="4" marL="1830960" indent="-20340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lvl="5" marL="1830960" indent="-20340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lvl="6" marL="1830960" indent="-20340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Verdana"/>
                <a:ea typeface="MS P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Verdana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Verdana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Verdana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Verdana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BDFC3-FC25-4CC5-9588-7EA98F1D8206}" type="slidenum">
              <a:rPr b="0" lang="en-US" sz="1400" spc="-1" strike="noStrike">
                <a:solidFill>
                  <a:srgbClr val="ffff66"/>
                </a:solidFill>
                <a:latin typeface="Verdana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Verdana"/>
                <a:ea typeface="MS P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Verdana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Verdana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Verdana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Verdana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1C826-2A00-4CF1-8A8A-8E1E8A50D2EB}" type="slidenum">
              <a:rPr b="0" lang="en-US" sz="1400" spc="-1" strike="noStrike">
                <a:solidFill>
                  <a:srgbClr val="ffff66"/>
                </a:solidFill>
                <a:latin typeface="Verdana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66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66"/>
              </a:buClr>
              <a:buFont typeface="Monotype Sorts" charset="2"/>
              <a:buChar char="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66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66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66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ct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ct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ct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ct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ct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2120" y="12189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66"/>
                </a:solidFill>
                <a:latin typeface="Verdana"/>
              </a:rPr>
              <a:t>The Geopolitics of Africa</a:t>
            </a:r>
            <a:endParaRPr b="1" lang="en-US" sz="48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2004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Shawn Powers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Dartmouth Debate Institute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July 17th, 2007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Actors</a:t>
            </a: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United States</a:t>
            </a:r>
            <a:endParaRPr b="0" lang="en-US" sz="2800" spc="-1" strike="noStrike">
              <a:solidFill>
                <a:srgbClr val="ffff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China</a:t>
            </a:r>
            <a:endParaRPr b="0" lang="en-US" sz="2800" spc="-1" strike="noStrike">
              <a:solidFill>
                <a:srgbClr val="ffff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Europe (Nordic Countries)</a:t>
            </a:r>
            <a:endParaRPr b="0" lang="en-US" sz="28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1640" y="167652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South Africa</a:t>
            </a:r>
            <a:endParaRPr b="0" lang="en-US" sz="2800" spc="-1" strike="noStrike">
              <a:solidFill>
                <a:srgbClr val="ffff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African Union</a:t>
            </a:r>
            <a:endParaRPr b="0" lang="en-US" sz="2800" spc="-1" strike="noStrike">
              <a:solidFill>
                <a:srgbClr val="ffff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Japan</a:t>
            </a:r>
            <a:endParaRPr b="0" lang="en-US" sz="2800" spc="-1" strike="noStrike">
              <a:solidFill>
                <a:srgbClr val="ffff66"/>
              </a:solidFill>
              <a:latin typeface="Verdan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762120" y="3733920"/>
            <a:ext cx="7543800" cy="29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US: President Bush and SAA</a:t>
            </a: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Very serious </a:t>
            </a:r>
            <a:r>
              <a:rPr b="0" lang="en-US" sz="2800" spc="-1" strike="noStrike" u="sng">
                <a:solidFill>
                  <a:srgbClr val="66ccff"/>
                </a:solidFill>
                <a:uFillTx/>
                <a:latin typeface="Verdana"/>
              </a:rPr>
              <a:t>stuff</a:t>
            </a:r>
            <a:endParaRPr b="0" lang="en-US" sz="2800" spc="-1" strike="noStrike">
              <a:solidFill>
                <a:srgbClr val="ffff66"/>
              </a:solidFill>
              <a:latin typeface="Verdan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MCA</a:t>
            </a:r>
            <a:endParaRPr b="0" lang="en-US" sz="2800" spc="-1" strike="noStrike">
              <a:solidFill>
                <a:srgbClr val="ffff66"/>
              </a:solidFill>
              <a:latin typeface="Verdan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PEPFAR</a:t>
            </a:r>
            <a:endParaRPr b="0" lang="en-US" sz="2800" spc="-1" strike="noStrike">
              <a:solidFill>
                <a:srgbClr val="ffff66"/>
              </a:solidFill>
              <a:latin typeface="Verdan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AGOA</a:t>
            </a:r>
            <a:endParaRPr b="0" lang="en-US" sz="2800" spc="-1" strike="noStrike">
              <a:solidFill>
                <a:srgbClr val="ffff66"/>
              </a:solidFill>
              <a:latin typeface="Verdan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AFRICOM</a:t>
            </a:r>
            <a:endParaRPr b="0" lang="en-US" sz="2800" spc="-1" strike="noStrike">
              <a:solidFill>
                <a:srgbClr val="ffff66"/>
              </a:solidFill>
              <a:latin typeface="Verdan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ヒラギノ角ゴ Pro W3"/>
              </a:rPr>
              <a:t>_x0010_</a:t>
            </a: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Combined Joint Task Force-Horn of Africa</a:t>
            </a:r>
            <a:endParaRPr b="0" lang="en-US" sz="2800" spc="-1" strike="noStrike">
              <a:solidFill>
                <a:srgbClr val="ffff66"/>
              </a:solidFill>
              <a:latin typeface="Verdan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Trans-Sahara Counterterrorism Initiative (TSCTI)</a:t>
            </a:r>
            <a:endParaRPr b="0" lang="en-US" sz="2800" spc="-1" strike="noStrike">
              <a:solidFill>
                <a:srgbClr val="ffff66"/>
              </a:solidFill>
              <a:latin typeface="Verdan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MEDFLAG</a:t>
            </a:r>
            <a:endParaRPr b="0" lang="en-US" sz="2800" spc="-1" strike="noStrike">
              <a:solidFill>
                <a:srgbClr val="ffff66"/>
              </a:solidFill>
              <a:latin typeface="Verdan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Verdan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6172200" y="1828800"/>
            <a:ext cx="2514600" cy="21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CHINA</a:t>
            </a: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14479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Monotype Sort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66"/>
                </a:solidFill>
                <a:latin typeface="Verdana"/>
              </a:rPr>
              <a:t>“</a:t>
            </a:r>
            <a:r>
              <a:rPr b="0" i="1" lang="en-US" sz="2400" spc="-1" strike="noStrike">
                <a:solidFill>
                  <a:srgbClr val="ffff66"/>
                </a:solidFill>
                <a:latin typeface="Verdana"/>
              </a:rPr>
              <a:t>An unprecedented need for resources is now driving China’s foreign policy”</a:t>
            </a: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" y="2362320"/>
            <a:ext cx="4876920" cy="43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  <a:ea typeface="MS Pゴシック"/>
              </a:rPr>
              <a:t>Oil v. </a:t>
            </a:r>
            <a:r>
              <a:rPr b="0" lang="en-US" sz="2400" spc="-1" strike="noStrike" u="sng">
                <a:solidFill>
                  <a:srgbClr val="66ccff"/>
                </a:solidFill>
                <a:uFillTx/>
                <a:latin typeface="Verdana"/>
                <a:ea typeface="MS Pゴシック"/>
              </a:rPr>
              <a:t>Genocide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  <a:ea typeface="MS Pゴシック"/>
              </a:rPr>
              <a:t>Also interested in access to other natural resources: 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Monotype Sort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  <a:ea typeface="MS Pゴシック"/>
              </a:rPr>
              <a:t>Copper, gold, aluminum, nickel, &amp; timber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  <a:ea typeface="MS Pゴシック"/>
              </a:rPr>
              <a:t>Provides cover for corrupt regimes: 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Monotype Sort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  <a:ea typeface="MS Pゴシック"/>
              </a:rPr>
              <a:t>Sudan, Ethiopia, Angola, Kenya &amp; Zimbabwe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5867280" y="2971800"/>
            <a:ext cx="2870280" cy="19177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803160" y="5943600"/>
            <a:ext cx="7396560" cy="12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Monotype Sort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66"/>
                </a:solidFill>
                <a:latin typeface="Verdana"/>
                <a:ea typeface="MS Pゴシック"/>
              </a:rPr>
              <a:t>“</a:t>
            </a:r>
            <a:r>
              <a:rPr b="0" i="1" lang="en-US" sz="2400" spc="-1" strike="noStrike">
                <a:solidFill>
                  <a:srgbClr val="ffff66"/>
                </a:solidFill>
                <a:latin typeface="Verdana"/>
                <a:ea typeface="MS Pゴシック"/>
              </a:rPr>
              <a:t>Zimbabwe is all but owned by China”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487692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Why China?</a:t>
            </a: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560" y="2057040"/>
            <a:ext cx="4800600" cy="43434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Seen as a fellow Developing country</a:t>
            </a:r>
            <a:endParaRPr b="0" lang="en-US" sz="2800" spc="-1" strike="noStrike">
              <a:solidFill>
                <a:srgbClr val="ffff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No conditions on aid</a:t>
            </a:r>
            <a:endParaRPr b="0" lang="en-US" sz="2800" spc="-1" strike="noStrike">
              <a:solidFill>
                <a:srgbClr val="ffff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China-Africa Cooperation Forum (CACF)</a:t>
            </a:r>
            <a:endParaRPr b="0" lang="en-US" sz="2800" spc="-1" strike="noStrike">
              <a:solidFill>
                <a:srgbClr val="ffff66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Monotype Sort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Trade, tourism, education, PKOS, &amp; military and medical training</a:t>
            </a: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5105520" y="380880"/>
            <a:ext cx="37083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China and Sudan</a:t>
            </a: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16765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China gets 7% of its oil imports from Sudan</a:t>
            </a:r>
            <a:endParaRPr b="0" lang="en-US" sz="2800" spc="-1" strike="noStrike">
              <a:solidFill>
                <a:srgbClr val="ffff66"/>
              </a:solidFill>
              <a:latin typeface="Verdana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$4 Billion invested in Sudan</a:t>
            </a:r>
            <a:endParaRPr b="0" lang="en-US" sz="2800" spc="-1" strike="noStrike">
              <a:solidFill>
                <a:srgbClr val="ffff66"/>
              </a:solidFill>
              <a:latin typeface="Verdana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Significant aid to the Sudanese military</a:t>
            </a:r>
            <a:endParaRPr b="0" lang="en-US" sz="2800" spc="-1" strike="noStrike">
              <a:solidFill>
                <a:srgbClr val="ffff66"/>
              </a:solidFill>
              <a:latin typeface="Verdana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Verdan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2590920" y="3276720"/>
            <a:ext cx="4454280" cy="33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China Explores</a:t>
            </a: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038120" y="1981080"/>
            <a:ext cx="441972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Over $7 Billion invested in Nigeria</a:t>
            </a:r>
            <a:endParaRPr b="0" lang="en-US" sz="2000" spc="-1" strike="noStrike">
              <a:solidFill>
                <a:srgbClr val="ffff66"/>
              </a:solidFill>
              <a:latin typeface="Verdana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Monotype Sort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Increased economic and military aid as well</a:t>
            </a:r>
            <a:endParaRPr b="0" lang="en-US" sz="2000" spc="-1" strike="noStrike">
              <a:solidFill>
                <a:srgbClr val="ffff66"/>
              </a:solidFill>
              <a:latin typeface="Verdana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Exploration activities in Ethiopia</a:t>
            </a:r>
            <a:endParaRPr b="0" lang="en-US" sz="2000" spc="-1" strike="noStrike">
              <a:solidFill>
                <a:srgbClr val="ffff66"/>
              </a:solidFill>
              <a:latin typeface="Verdana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Over $2 billion in “soft loans” to Angola</a:t>
            </a:r>
            <a:endParaRPr b="0" lang="en-US" sz="2000" spc="-1" strike="noStrike">
              <a:solidFill>
                <a:srgbClr val="ffff66"/>
              </a:solidFill>
              <a:latin typeface="Verdana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Is competing with India, Malaysia, &amp; North and South Korea for access it Africa’s natural resources</a:t>
            </a:r>
            <a:endParaRPr b="0" lang="en-US" sz="2000" spc="-1" strike="noStrike">
              <a:solidFill>
                <a:srgbClr val="ffff66"/>
              </a:solidFill>
              <a:latin typeface="Verdana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Significant investments in Zambia, DRC, Sierra Leone, and Kenya</a:t>
            </a:r>
            <a:endParaRPr b="0" lang="en-US" sz="2000" spc="-1" strike="noStrike">
              <a:solidFill>
                <a:srgbClr val="ffff66"/>
              </a:solidFill>
              <a:latin typeface="Verdan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304920" y="2819520"/>
            <a:ext cx="3387600" cy="22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Geopolitical Consequences</a:t>
            </a: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China’s investments are setting a precedent</a:t>
            </a:r>
            <a:endParaRPr b="0" lang="en-US" sz="2800" spc="-1" strike="noStrike">
              <a:solidFill>
                <a:srgbClr val="ffff66"/>
              </a:solidFill>
              <a:latin typeface="Verdan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Monotype Sort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Brazil, India and the Korea’s followed the “no strings attached” approach to aid</a:t>
            </a: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China can out-bid competitors</a:t>
            </a:r>
            <a:endParaRPr b="0" lang="en-US" sz="2800" spc="-1" strike="noStrike">
              <a:solidFill>
                <a:srgbClr val="ffff66"/>
              </a:solidFill>
              <a:latin typeface="Verdan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Monotype Sort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State-run industries where profits are irrelevant</a:t>
            </a: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Monotype Sort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Easier to join aid and investment</a:t>
            </a: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What advantages does the United States have?</a:t>
            </a:r>
            <a:endParaRPr b="0" lang="en-US" sz="2800" spc="-1" strike="noStrike">
              <a:solidFill>
                <a:srgbClr val="ffff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South Africa</a:t>
            </a: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1/5 of its population in HIV positive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Highest rape rate in the world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Increasing influence through cooperation, business 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5867280" y="4724280"/>
            <a:ext cx="2971800" cy="18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African Union</a:t>
            </a: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Established in 2001, 53 nations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Works to support democracy: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Monotype Sort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Togo, Mauritania</a:t>
            </a:r>
            <a:endParaRPr b="0" lang="en-US" sz="2800" spc="-1" strike="noStrike">
              <a:solidFill>
                <a:srgbClr val="ffff66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Resolve international conflicts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Monotype Sort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Sudan, Somalia, Senegal</a:t>
            </a:r>
            <a:endParaRPr b="0" lang="en-US" sz="2800" spc="-1" strike="noStrike">
              <a:solidFill>
                <a:srgbClr val="ffff66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ヒラギノ角ゴ Pro W3"/>
              </a:rPr>
              <a:t>_x0010_</a:t>
            </a: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Headquarters: Addis Ababa, Ethiopia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Annual operating budget: ?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What do you </a:t>
            </a:r>
            <a:r>
              <a:rPr b="1" i="1" lang="en-US" sz="4400" spc="-1" strike="noStrike">
                <a:solidFill>
                  <a:srgbClr val="ffff66"/>
                </a:solidFill>
                <a:latin typeface="Verdana"/>
              </a:rPr>
              <a:t>know</a:t>
            </a: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 about Africa?</a:t>
            </a: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ccff"/>
                </a:solidFill>
                <a:uFillTx/>
                <a:latin typeface="Verdana"/>
              </a:rPr>
              <a:t>Blood Diamond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ccff"/>
                </a:solidFill>
                <a:uFillTx/>
                <a:latin typeface="Verdana"/>
              </a:rPr>
              <a:t>Lord of War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ccff"/>
                </a:solidFill>
                <a:uFillTx/>
                <a:latin typeface="Verdana"/>
              </a:rPr>
              <a:t>Black Hawk Down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ccff"/>
                </a:solidFill>
                <a:uFillTx/>
                <a:latin typeface="Verdana"/>
              </a:rPr>
              <a:t>Tears of the Sun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ccff"/>
                </a:solidFill>
                <a:uFillTx/>
                <a:latin typeface="Verdana"/>
              </a:rPr>
              <a:t>Hotel Rwanda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Country Map of Africa</a:t>
            </a: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  <a:ea typeface="ＭＳ Ｐゴシック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2286000" y="1143000"/>
            <a:ext cx="4797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Why Africa?</a:t>
            </a: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Or, </a:t>
            </a:r>
            <a:r>
              <a:rPr b="0" i="1" lang="en-US" sz="3200" spc="-1" strike="noStrike">
                <a:solidFill>
                  <a:srgbClr val="ffff66"/>
                </a:solidFill>
                <a:latin typeface="Verdana"/>
              </a:rPr>
              <a:t>what are U.S. security interests in Sub-Sahara Africa (SSA)?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Monotype Sort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Energy</a:t>
            </a:r>
            <a:endParaRPr b="0" lang="en-US" sz="2800" spc="-1" strike="noStrike">
              <a:solidFill>
                <a:srgbClr val="ffff66"/>
              </a:solidFill>
              <a:latin typeface="Verdana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Monotype Sort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Terrorism</a:t>
            </a:r>
            <a:endParaRPr b="0" lang="en-US" sz="2800" spc="-1" strike="noStrike">
              <a:solidFill>
                <a:srgbClr val="ffff66"/>
              </a:solidFill>
              <a:latin typeface="Verdana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Monotype Sort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HIV/Aids and disease prevention</a:t>
            </a:r>
            <a:endParaRPr b="0" lang="en-US" sz="2800" spc="-1" strike="noStrike">
              <a:solidFill>
                <a:srgbClr val="ffff66"/>
              </a:solidFill>
              <a:latin typeface="Verdana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Monotype Sort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Ethnic conflicts, genocide prevention</a:t>
            </a:r>
            <a:endParaRPr b="0" lang="en-US" sz="2800" spc="-1" strike="noStrike">
              <a:solidFill>
                <a:srgbClr val="ffff66"/>
              </a:solidFill>
              <a:latin typeface="Verdana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Monotype Sort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Democratic governance, civil society</a:t>
            </a:r>
            <a:endParaRPr b="0" lang="en-US" sz="2800" spc="-1" strike="noStrike">
              <a:solidFill>
                <a:srgbClr val="ffff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Energy</a:t>
            </a: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518148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15% of US oil imports come from SSA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lvl="1" marL="676080" indent="-259920">
              <a:spcBef>
                <a:spcPts val="700"/>
              </a:spcBef>
              <a:buClr>
                <a:srgbClr val="ffff66"/>
              </a:buClr>
              <a:buFont typeface="Monotype Sort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Could double in a decade</a:t>
            </a:r>
            <a:endParaRPr b="0" lang="en-US" sz="2800" spc="-1" strike="noStrike">
              <a:solidFill>
                <a:srgbClr val="ffff66"/>
              </a:solidFill>
              <a:latin typeface="Verdana"/>
            </a:endParaRPr>
          </a:p>
          <a:p>
            <a:pPr marL="312120" indent="-31212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Lots of competition: 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Monotype Sort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ヒラギノ角ゴ Pro W3"/>
              </a:rPr>
              <a:t>_x0010_</a:t>
            </a: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China, India, Malaysia, North and South Korea, Brazil and Europe</a:t>
            </a:r>
            <a:endParaRPr b="0" lang="en-US" sz="2800" spc="-1" strike="noStrike">
              <a:solidFill>
                <a:srgbClr val="ffff66"/>
              </a:solidFill>
              <a:latin typeface="Verdan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6095880" y="2362320"/>
            <a:ext cx="2793960" cy="29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Threats to African Energy Production</a:t>
            </a: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58128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Criminal networks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Terrorism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Disease, HIV/AIDS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Political and social unrest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343400" y="2362320"/>
            <a:ext cx="4572000" cy="32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Terrorism?</a:t>
            </a: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25% of Iraqi insurgents originated from Africa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Monotype Sort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Terrorist and insurgent groups are appealing to Africa’s 300 million (and growing) Muslims for support</a:t>
            </a:r>
            <a:endParaRPr b="0" lang="en-US" sz="2800" spc="-1" strike="noStrike">
              <a:solidFill>
                <a:srgbClr val="ffff66"/>
              </a:solidFill>
              <a:latin typeface="Verdan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Monotype Sort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South Africa and Nigeria </a:t>
            </a:r>
            <a:endParaRPr b="0" lang="en-US" sz="2800" spc="-1" strike="noStrike">
              <a:solidFill>
                <a:srgbClr val="ffff66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Terrorist affiliation is closely associated with economic opportunities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Conflict Resolution</a:t>
            </a: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Conflicts are a breeding ground for:</a:t>
            </a:r>
            <a:endParaRPr b="0" lang="en-US" sz="2800" spc="-1" strike="noStrike">
              <a:solidFill>
                <a:srgbClr val="ffff66"/>
              </a:solidFill>
              <a:latin typeface="Verdana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Monotype Sort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international criminal activity, terrorist infiltration, &amp; the spread of disease.</a:t>
            </a: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Serious consequences on: </a:t>
            </a:r>
            <a:endParaRPr b="0" lang="en-US" sz="2800" spc="-1" strike="noStrike">
              <a:solidFill>
                <a:srgbClr val="ffff66"/>
              </a:solidFill>
              <a:latin typeface="Verdana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Monotype Sort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Environment, women’s (and human) rights issues &amp; the economy</a:t>
            </a: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Wars have caused more deaths in Africa than disease and famine</a:t>
            </a:r>
            <a:endParaRPr b="0" lang="en-US" sz="2800" spc="-1" strike="noStrike">
              <a:solidFill>
                <a:srgbClr val="ffff66"/>
              </a:solidFill>
              <a:latin typeface="Verdana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Monotype Sort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Rwanda, DRC, Sudan, Sierra Leone</a:t>
            </a: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IDP and Refugees</a:t>
            </a:r>
            <a:endParaRPr b="0" lang="en-US" sz="2800" spc="-1" strike="noStrike">
              <a:solidFill>
                <a:srgbClr val="ffff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Democratic Governance</a:t>
            </a: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800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Major challenges in: </a:t>
            </a:r>
            <a:endParaRPr b="0" lang="en-US" sz="2800" spc="-1" strike="noStrike">
              <a:solidFill>
                <a:srgbClr val="ffff66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Monotype Sort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Nigeria, Sudan, Ethiopia, Uganda &amp; Zimbabwe</a:t>
            </a: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More than 2/3 of African nations have undergone elections</a:t>
            </a:r>
            <a:endParaRPr b="0" lang="en-US" sz="2800" spc="-1" strike="noStrike">
              <a:solidFill>
                <a:srgbClr val="ffff66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Monotype Sort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AU has agreed to not recognize governments that come to power via unconstitutional means</a:t>
            </a: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410080" y="1676520"/>
            <a:ext cx="34196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5T18:50:51Z</dcterms:created>
  <dc:creator>Shawn Powers</dc:creator>
  <dc:description/>
  <dc:language>en-US</dc:language>
  <cp:lastModifiedBy>Shawn Powers</cp:lastModifiedBy>
  <dcterms:modified xsi:type="dcterms:W3CDTF">2007-07-17T19:53:35Z</dcterms:modified>
  <cp:revision>84</cp:revision>
  <dc:subject/>
  <dc:title>The Geopolitics of Africa</dc:title>
</cp:coreProperties>
</file>